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24E-E4DA-4FD4-BF5C-954FB8F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5EA-B9D4-4227-84AB-194AE73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55B-6EF0-4406-8144-51109630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768-F5BA-48DC-9736-C1B44D42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933-0BAC-4DFA-B030-02137BF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834-7A09-4B9B-B7A8-8000E6AE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307-1556-4E4D-8D39-0305122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F1B-020E-4EB2-BEF0-190E48AB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737-30AD-4948-A199-14326CA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1E6-F859-4712-8016-F820533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872-9FD1-4797-9AFF-59C6459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19A-E6E9-4324-B168-CCA2168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B2B-152E-4BFE-94D8-1185015159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 rot="20862600">
            <a:off x="203040" y="1029960"/>
            <a:ext cx="6229440" cy="1149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 rot="340200">
            <a:off x="3274560" y="414360"/>
            <a:ext cx="5450040" cy="331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0149200">
            <a:off x="698400" y="2206440"/>
            <a:ext cx="5181840" cy="340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992400">
            <a:off x="5046840" y="2023920"/>
            <a:ext cx="3581280" cy="4140360"/>
          </a:xfrm>
          <a:prstGeom prst="rect">
            <a:avLst/>
          </a:prstGeom>
          <a:ln w="0">
            <a:noFill/>
          </a:ln>
        </p:spPr>
      </p:pic>
      <p:pic>
        <p:nvPicPr>
          <p:cNvPr id="45" name="~PP3941.WAV" descr=""/>
          <p:cNvPicPr/>
          <p:nvPr/>
        </p:nvPicPr>
        <p:blipFill>
          <a:blip r:embed="rId7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862600">
            <a:off x="203040" y="1029960"/>
            <a:ext cx="622944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340200">
            <a:off x="3274560" y="414360"/>
            <a:ext cx="5450040" cy="331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20149200">
            <a:off x="698400" y="2206440"/>
            <a:ext cx="5181840" cy="340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992400">
            <a:off x="5046840" y="2023920"/>
            <a:ext cx="3581280" cy="4140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8610480" y="6095880"/>
            <a:ext cx="381240" cy="5205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421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705720" y="6324480"/>
            <a:ext cx="259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2666880" y="6257880"/>
            <a:ext cx="381024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42120" cy="59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4120" y="6248520"/>
            <a:ext cx="3809880" cy="523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 rot="10800000">
            <a:off x="151920" y="6398640"/>
            <a:ext cx="259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0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-609480" y="-228600"/>
            <a:ext cx="10310760" cy="717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14600" y="6334200"/>
            <a:ext cx="3809880" cy="523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781680" y="6458040"/>
            <a:ext cx="259092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90920" y="6334200"/>
            <a:ext cx="380988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756640" cy="533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553080" y="6381720"/>
            <a:ext cx="259092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66880" y="6257880"/>
            <a:ext cx="381024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0" y="2033640"/>
            <a:ext cx="9144000" cy="1776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6705720" y="6324480"/>
            <a:ext cx="2590560" cy="3988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ch here to f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13:31Z</dcterms:created>
  <dc:creator>Jamie</dc:creator>
  <dc:description/>
  <dc:language>en-US</dc:language>
  <cp:lastModifiedBy>Randeep Ramamurthy</cp:lastModifiedBy>
  <dcterms:modified xsi:type="dcterms:W3CDTF">2007-12-04T00:09:48Z</dcterms:modified>
  <cp:revision>32</cp:revision>
  <dc:subject/>
  <dc:title>Slide 1</dc:title>
</cp:coreProperties>
</file>